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4D3-B89C-48E7-BE1F-D8EF8EC6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C54-A259-4200-BDC5-76D50C00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677-3176-4199-AD08-FA37E96E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327-496E-44F8-B0A3-B1E9324F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78C-F2EC-4550-8AFA-758D59AC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22E-C84F-40B8-8B10-853A05CF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C04-F870-4734-B573-ECEEED75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E6B-55E1-41DC-B792-249AE0F7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ED1-9EE4-422E-9297-59EEEFFE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E78-3687-4C53-A683-6E9907CF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BDC-4BDD-4223-BD81-BA6779D7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05E-587B-493E-A116-A29F0EF1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6BAA-8E9A-4C53-AE2B-65907EC92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images.google.co.uk/imgres?imgurl=https://nms-mathletics.wikispaces.com/file/view/pi.png/33194495/pi.png&amp;imgrefurl=https://nms-mathletics.wikispaces.com/stephenj&amp;usg=__L5Q4qC-7hmFYJw5ooFz25gXlaaw=&amp;h=600&amp;w=600&amp;sz=14&amp;hl=en&amp;start=7&amp;itbs=1&amp;tbnid=hf8lm3znBV7Y3M:&amp;tbnh=135&amp;tbnw=135&amp;prev=/images%3Fq%3Dpi%26hl%3Den%26gbv%3D2%26tbs%3Disch:1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ening ceremon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ouise Montgom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 Rob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79640" y="1197000"/>
            <a:ext cx="4824720" cy="2878920"/>
            <a:chOff x="1979640" y="1197000"/>
            <a:chExt cx="4824720" cy="2878920"/>
          </a:xfrm>
        </p:grpSpPr>
        <p:grpSp>
          <p:nvGrpSpPr>
            <p:cNvPr id="45" name=""/>
            <p:cNvGrpSpPr/>
            <p:nvPr/>
          </p:nvGrpSpPr>
          <p:grpSpPr>
            <a:xfrm>
              <a:off x="1979640" y="1896840"/>
              <a:ext cx="4824720" cy="2179080"/>
              <a:chOff x="1979640" y="1896840"/>
              <a:chExt cx="4824720" cy="2179080"/>
            </a:xfrm>
          </p:grpSpPr>
          <p:sp>
            <p:nvSpPr>
              <p:cNvPr id="46" name=""/>
              <p:cNvSpPr/>
              <p:nvPr/>
            </p:nvSpPr>
            <p:spPr>
              <a:xfrm>
                <a:off x="4585680" y="1896840"/>
                <a:ext cx="2218680" cy="2179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979640" y="1896840"/>
                <a:ext cx="2218680" cy="2179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137040" y="1896840"/>
                <a:ext cx="2605680" cy="2179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 txBox="1"/>
            <p:nvPr/>
          </p:nvSpPr>
          <p:spPr>
            <a:xfrm>
              <a:off x="3818160" y="1197000"/>
              <a:ext cx="901440" cy="61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90m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3281400" y="2753280"/>
              <a:ext cx="830520" cy="61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70m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55640" y="4292640"/>
            <a:ext cx="79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m*90m= 6300               area of square part of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/2= 35                            find the radi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3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=3848.451001         formula to find the area of the semi-circular parts of the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300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5.43615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0148.451    total area of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156280"/>
            <a:ext cx="2890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1125360"/>
            <a:ext cx="896472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es everyone will fit with 2 people per square metr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92360" y="3429000"/>
            <a:ext cx="513072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space to spa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941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2 people per square metre you would have 19096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9:35:14Z</dcterms:created>
  <dc:creator>montgomeryl</dc:creator>
  <dc:description/>
  <dc:language>en-US</dc:language>
  <cp:lastModifiedBy>montgomeryl</cp:lastModifiedBy>
  <dcterms:modified xsi:type="dcterms:W3CDTF">2010-03-17T09:56:05Z</dcterms:modified>
  <cp:revision>2</cp:revision>
  <dc:subject/>
  <dc:title>The opening ceremony problem</dc:title>
</cp:coreProperties>
</file>